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B37-C21E-417E-A5DB-0BB30368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F31-3133-41F4-A05D-77BE147E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4D9-F900-49B3-A2A3-21E8E29E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D42-CCB9-40BE-BA59-653A98FD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78D-EDDA-44E4-99CE-7ADE6ED6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F8A-DB1D-4AAB-A38A-DA5119FD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7C3-2E6E-4CD5-8489-EF6FCBFA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03E-3513-4BE2-9D6F-EADA1621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FDE-658C-4BA5-B4AB-08C09D52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11D-3E2D-4F5E-B29E-C4B76C2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495-9AC1-4DFF-8BC4-983EFB35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72B-19AD-4AD7-A4C4-610B75B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90D2-A167-48AC-B149-FD2114396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in 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, Land, Religious Conformity- Roman Catholicism, Gold,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panish%20Flag"/>
          <p:cNvPicPr/>
          <p:nvPr/>
        </p:nvPicPr>
        <p:blipFill>
          <a:blip r:embed="rId1"/>
          <a:stretch/>
        </p:blipFill>
        <p:spPr>
          <a:xfrm>
            <a:off x="2133720" y="3753000"/>
            <a:ext cx="419076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orial- King’s Pal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Palace tell you about Philip 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l%20escorial"/>
          <p:cNvPicPr/>
          <p:nvPr/>
        </p:nvPicPr>
        <p:blipFill>
          <a:blip r:embed="rId1"/>
          <a:stretch/>
        </p:blipFill>
        <p:spPr>
          <a:xfrm>
            <a:off x="838080" y="1735200"/>
            <a:ext cx="739152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orial Mona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89384-El-Escorial-Monestary-0"/>
          <p:cNvPicPr/>
          <p:nvPr/>
        </p:nvPicPr>
        <p:blipFill>
          <a:blip r:embed="rId1"/>
          <a:stretch/>
        </p:blipFill>
        <p:spPr>
          <a:xfrm>
            <a:off x="9907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Gre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39625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El Greco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of the style called “Baroq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rnate, colorful, lots of gold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el%20greco01"/>
          <p:cNvPicPr/>
          <p:nvPr/>
        </p:nvPicPr>
        <p:blipFill>
          <a:blip r:embed="rId1"/>
          <a:stretch/>
        </p:blipFill>
        <p:spPr>
          <a:xfrm>
            <a:off x="514440" y="1219320"/>
            <a:ext cx="4029120" cy="53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411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n Quixote? Why is his story so appea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on-quixote"/>
          <p:cNvPicPr/>
          <p:nvPr/>
        </p:nvPicPr>
        <p:blipFill>
          <a:blip r:embed="rId1"/>
          <a:stretch/>
        </p:blipFill>
        <p:spPr>
          <a:xfrm>
            <a:off x="7507440" y="0"/>
            <a:ext cx="163656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asso_don_quixote"/>
          <p:cNvPicPr/>
          <p:nvPr/>
        </p:nvPicPr>
        <p:blipFill>
          <a:blip r:embed="rId2"/>
          <a:stretch/>
        </p:blipFill>
        <p:spPr>
          <a:xfrm>
            <a:off x="0" y="0"/>
            <a:ext cx="231300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Video%20-%20Don%20Quixote%20(TNT%20Original)"/>
          <p:cNvPicPr/>
          <p:nvPr/>
        </p:nvPicPr>
        <p:blipFill>
          <a:blip r:embed="rId3"/>
          <a:stretch/>
        </p:blipFill>
        <p:spPr>
          <a:xfrm>
            <a:off x="2438280" y="228600"/>
            <a:ext cx="2221200" cy="403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DonQuixote"/>
          <p:cNvPicPr/>
          <p:nvPr/>
        </p:nvPicPr>
        <p:blipFill>
          <a:blip r:embed="rId4"/>
          <a:stretch/>
        </p:blipFill>
        <p:spPr>
          <a:xfrm>
            <a:off x="5029200" y="2209680"/>
            <a:ext cx="3854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bella and Ferdinand’s daughter married Philip the Handsome-&gt;bringing Netherlands with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Netherlands –Belgium and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althy area- textile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vinist ideas -&gt;spreading  by lat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tried to impose strict 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hird Netherlands Calvinists- primarily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(Elizabeth) supported Calvi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 William of Orange (fought against S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ed the dikes which protected Dutch cities so the Spanish could not rule ove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cord with William’s wishes after the fighting was over the Netherlands became a place of to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atholic Spain vs. Protestant Netherlan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ip v. Elizabe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the Bat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sea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aiding the Dutch Calvi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restored Protestantism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sed Philip’s overtures for mar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was conspiring w/Elizabeth’s Scottish cousin- Mary (no not Bloody Mary)- This Mary was also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also kicked out of Scotland when Knox and others established Presbyter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480" y="106668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nish Armada 158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ip II v. Elizabeth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Loses to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map"/>
          <p:cNvPicPr/>
          <p:nvPr/>
        </p:nvPicPr>
        <p:blipFill>
          <a:blip r:embed="rId1"/>
          <a:stretch/>
        </p:blipFill>
        <p:spPr>
          <a:xfrm>
            <a:off x="0" y="0"/>
            <a:ext cx="2857680" cy="452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BHC0262"/>
          <p:cNvPicPr/>
          <p:nvPr/>
        </p:nvPicPr>
        <p:blipFill>
          <a:blip r:embed="rId2"/>
          <a:stretch/>
        </p:blipFill>
        <p:spPr>
          <a:xfrm>
            <a:off x="2895480" y="1940040"/>
            <a:ext cx="6248520" cy="4917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140040" y="5446800"/>
            <a:ext cx="27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Pirateers- Fran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ke upset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 wanted Englan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Catho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Revolt- Netherland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ic54565_sized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502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ADT_08145_2004%20amsterdam%20dutch%20flag%20c%201075"/>
          <p:cNvPicPr/>
          <p:nvPr/>
        </p:nvPicPr>
        <p:blipFill>
          <a:blip r:embed="rId2"/>
          <a:stretch/>
        </p:blipFill>
        <p:spPr>
          <a:xfrm>
            <a:off x="0" y="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1650 in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led Spain to a Golden 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ributed to its dec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472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and Isab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2013_10A"/>
          <p:cNvPicPr/>
          <p:nvPr/>
        </p:nvPicPr>
        <p:blipFill>
          <a:blip r:embed="rId1"/>
          <a:stretch/>
        </p:blipFill>
        <p:spPr>
          <a:xfrm>
            <a:off x="990720" y="205740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45684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In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81120" y="2895480"/>
            <a:ext cx="35053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it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it help S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it hurt S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panish_inquisition_court"/>
          <p:cNvPicPr/>
          <p:nvPr/>
        </p:nvPicPr>
        <p:blipFill>
          <a:blip r:embed="rId1"/>
          <a:stretch/>
        </p:blipFill>
        <p:spPr>
          <a:xfrm>
            <a:off x="380880" y="685800"/>
            <a:ext cx="4400640" cy="54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0" y="15192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8765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panish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- Habsburg (Philip the Hands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- Joanna the M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ed enormous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HRE (generally went to a Habsbu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mperor_charles_v"/>
          <p:cNvPicPr/>
          <p:nvPr/>
        </p:nvPicPr>
        <p:blipFill>
          <a:blip r:embed="rId1"/>
          <a:stretch/>
        </p:blipFill>
        <p:spPr>
          <a:xfrm>
            <a:off x="762120" y="1143000"/>
            <a:ext cx="3819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V Kingdom by Ac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www.lib.utexas.edu/maps/historical/colbeck/europe_1519_charles_v.jpg"/>
          <p:cNvPicPr/>
          <p:nvPr/>
        </p:nvPicPr>
        <p:blipFill>
          <a:blip r:embed="rId1"/>
          <a:stretch/>
        </p:blipFill>
        <p:spPr>
          <a:xfrm>
            <a:off x="1066680" y="1303200"/>
            <a:ext cx="63248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World-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ortez2"/>
          <p:cNvPicPr/>
          <p:nvPr/>
        </p:nvPicPr>
        <p:blipFill>
          <a:blip r:embed="rId1"/>
          <a:stretch/>
        </p:blipFill>
        <p:spPr>
          <a:xfrm>
            <a:off x="457200" y="1523880"/>
            <a:ext cx="4419720" cy="261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tahualpa_meets_pizarro"/>
          <p:cNvPicPr/>
          <p:nvPr/>
        </p:nvPicPr>
        <p:blipFill>
          <a:blip r:embed="rId2"/>
          <a:stretch/>
        </p:blipFill>
        <p:spPr>
          <a:xfrm>
            <a:off x="5105520" y="1600200"/>
            <a:ext cx="333036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685800" y="58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, Central America, Mid-America, California Coast, Peru, Venezuela, Ecuador, Chile,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09480" y="4495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ez, Pizarro, De Soto, De Leon, Cab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3760" y="2743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nish Gold and Sil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43-2l"/>
          <p:cNvPicPr/>
          <p:nvPr/>
        </p:nvPicPr>
        <p:blipFill>
          <a:blip r:embed="rId1"/>
          <a:stretch/>
        </p:blipFill>
        <p:spPr>
          <a:xfrm>
            <a:off x="457200" y="990720"/>
            <a:ext cx="4267080" cy="502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1-3-1-D"/>
          <p:cNvPicPr/>
          <p:nvPr/>
        </p:nvPicPr>
        <p:blipFill>
          <a:blip r:embed="rId2"/>
          <a:stretch/>
        </p:blipFill>
        <p:spPr>
          <a:xfrm>
            <a:off x="5181480" y="2909880"/>
            <a:ext cx="2990880" cy="2548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410080" y="2590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arro conquers 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2057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560" y="2438280"/>
            <a:ext cx="2361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ed the non-Habsburg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abs245"/>
          <p:cNvPicPr/>
          <p:nvPr/>
        </p:nvPicPr>
        <p:blipFill>
          <a:blip r:embed="rId1"/>
          <a:stretch/>
        </p:blipFill>
        <p:spPr>
          <a:xfrm>
            <a:off x="2968560" y="380880"/>
            <a:ext cx="4194360" cy="58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Empire 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peh5"/>
          <p:cNvPicPr/>
          <p:nvPr/>
        </p:nvPicPr>
        <p:blipFill>
          <a:blip r:embed="rId1"/>
          <a:stretch/>
        </p:blipFill>
        <p:spPr>
          <a:xfrm>
            <a:off x="380880" y="1447920"/>
            <a:ext cx="85838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2:11:56Z</dcterms:created>
  <dc:creator>Darien Public Schools</dc:creator>
  <dc:description/>
  <dc:language>en-US</dc:language>
  <cp:lastModifiedBy>Balazs, Stephen</cp:lastModifiedBy>
  <dcterms:modified xsi:type="dcterms:W3CDTF">2014-03-12T11:19:28Z</dcterms:modified>
  <cp:revision>18</cp:revision>
  <dc:subject/>
  <dc:title>Spain 16th -17th Century</dc:title>
</cp:coreProperties>
</file>